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BED1-1A69-46BD-B69C-D5D377F22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A1E5-3A7E-46E0-BB16-CBF863DDF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C0B5-4F89-4381-AC12-84F004C3B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2318-561F-4AC6-86E8-C8EE593DD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1E49-1F09-4F9A-BF7E-F92E02776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E3AE-7539-47F9-8DC4-BF2792968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2FE4-3522-4FD9-A02C-D6039DE64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8B25-C45A-4698-8705-05DC559A2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7A33-B3DA-4B28-BA92-E0642AF5C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B095-CD37-4CC3-A311-411E2BD8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461B-F729-4E47-8E5E-FA03A090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32EE-C0F3-474A-A7B9-45720F79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63419-437E-46D6-9FA8-ECB34C2B307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1484280"/>
            <a:ext cx="86659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توكل على الله تعالى والثقة به جل وعلا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50920" y="220500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إقامة الصلاة في أوقاتها وأدائها كاملة بشروطها وواجباتها مع استحضار القلب وخشوع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227160" y="2924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كبر علامات خشية ال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أن يحجز صاحبه عن فعل الذنوب والمعاص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8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559720" cy="4248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6156360" y="2852640"/>
            <a:ext cx="2340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إذا ذكر الله وجلت قلوبه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3059280" y="2708280"/>
            <a:ext cx="2341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إذا تليت عليهم آياته زادتهم إيمانا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عنوان 1"/>
          <p:cNvSpPr/>
          <p:nvPr/>
        </p:nvSpPr>
        <p:spPr>
          <a:xfrm>
            <a:off x="250920" y="2708280"/>
            <a:ext cx="2341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على ربهم يتوكلو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عنوان 1"/>
          <p:cNvSpPr/>
          <p:nvPr/>
        </p:nvSpPr>
        <p:spPr>
          <a:xfrm>
            <a:off x="6084720" y="4221000"/>
            <a:ext cx="2340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يقيمون الصلا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عنوان 1"/>
          <p:cNvSpPr/>
          <p:nvPr/>
        </p:nvSpPr>
        <p:spPr>
          <a:xfrm>
            <a:off x="2987640" y="4373640"/>
            <a:ext cx="2340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مما رزقهم الله ينفقو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250920" y="995400"/>
            <a:ext cx="8532720" cy="5529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5" name="عنوان 1"/>
          <p:cNvSpPr/>
          <p:nvPr/>
        </p:nvSpPr>
        <p:spPr>
          <a:xfrm>
            <a:off x="250920" y="2133720"/>
            <a:ext cx="6661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يقيمون وقعت في ( 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17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 ) سنة (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) للهجرة،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عنوان 1"/>
          <p:cNvSpPr/>
          <p:nvPr/>
        </p:nvSpPr>
        <p:spPr>
          <a:xfrm>
            <a:off x="250920" y="3500280"/>
            <a:ext cx="666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سترجاع المسلمين لأموالهم التي نهبها كفار قريش من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عنوان 1"/>
          <p:cNvSpPr/>
          <p:nvPr/>
        </p:nvSpPr>
        <p:spPr>
          <a:xfrm>
            <a:off x="71280" y="4653000"/>
            <a:ext cx="5292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عدد المسلمين (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314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) عدد المشركين (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1000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عنوان 1"/>
          <p:cNvSpPr/>
          <p:nvPr/>
        </p:nvSpPr>
        <p:spPr>
          <a:xfrm>
            <a:off x="1619280" y="5877000"/>
            <a:ext cx="5292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نتصار المسلمين وهزيمة المشرك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1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86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3"/>
          <a:stretch/>
        </p:blipFill>
        <p:spPr>
          <a:xfrm>
            <a:off x="611280" y="1700280"/>
            <a:ext cx="8138880" cy="62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5" name="عنوان 1"/>
          <p:cNvSpPr/>
          <p:nvPr/>
        </p:nvSpPr>
        <p:spPr>
          <a:xfrm>
            <a:off x="223920" y="5805360"/>
            <a:ext cx="86914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ألفة  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محبة  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اتفا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10" descr=""/>
          <p:cNvPicPr/>
          <p:nvPr/>
        </p:nvPicPr>
        <p:blipFill>
          <a:blip r:embed="rId3"/>
          <a:stretch/>
        </p:blipFill>
        <p:spPr>
          <a:xfrm>
            <a:off x="1284120" y="1052640"/>
            <a:ext cx="7631280" cy="583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"/>
          <p:cNvPicPr/>
          <p:nvPr/>
        </p:nvPicPr>
        <p:blipFill>
          <a:blip r:embed="rId4"/>
          <a:stretch/>
        </p:blipFill>
        <p:spPr>
          <a:xfrm>
            <a:off x="1081080" y="3213000"/>
            <a:ext cx="7834320" cy="609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"/>
          <p:cNvPicPr/>
          <p:nvPr/>
        </p:nvPicPr>
        <p:blipFill>
          <a:blip r:embed="rId5"/>
          <a:stretch/>
        </p:blipFill>
        <p:spPr>
          <a:xfrm>
            <a:off x="2793960" y="5229360"/>
            <a:ext cx="6121440" cy="546120"/>
          </a:xfrm>
          <a:prstGeom prst="rect">
            <a:avLst/>
          </a:prstGeom>
          <a:ln w="0">
            <a:noFill/>
          </a:ln>
        </p:spPr>
      </p:pic>
      <p:sp>
        <p:nvSpPr>
          <p:cNvPr id="99" name="عنوان 1"/>
          <p:cNvSpPr/>
          <p:nvPr/>
        </p:nvSpPr>
        <p:spPr>
          <a:xfrm>
            <a:off x="203040" y="1628640"/>
            <a:ext cx="86918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لاوة الآيات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ذكر ال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توكل على ال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عنوان 1"/>
          <p:cNvSpPr/>
          <p:nvPr/>
        </p:nvSpPr>
        <p:spPr>
          <a:xfrm>
            <a:off x="216000" y="3860640"/>
            <a:ext cx="86914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من التوكل الأخذ بالأسبا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309600" y="252360"/>
            <a:ext cx="852480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96"/>
          <a:stretch/>
        </p:blipFill>
        <p:spPr>
          <a:xfrm>
            <a:off x="250920" y="1998720"/>
            <a:ext cx="862812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38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179280" y="1822320"/>
            <a:ext cx="8690040" cy="39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2"/>
          <a:stretch/>
        </p:blipFill>
        <p:spPr>
          <a:xfrm>
            <a:off x="250920" y="981000"/>
            <a:ext cx="86058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158760" y="1197000"/>
            <a:ext cx="8825040" cy="1574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51" name="عنوان 1"/>
          <p:cNvSpPr/>
          <p:nvPr/>
        </p:nvSpPr>
        <p:spPr>
          <a:xfrm>
            <a:off x="8028000" y="1865160"/>
            <a:ext cx="1368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1f497d"/>
                </a:solidFill>
                <a:latin typeface="Wingdings"/>
                <a:ea typeface="Wingdings"/>
              </a:rPr>
              <a:t>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0" descr=""/>
          <p:cNvPicPr/>
          <p:nvPr/>
        </p:nvPicPr>
        <p:blipFill>
          <a:blip r:embed="rId1"/>
          <a:stretch/>
        </p:blipFill>
        <p:spPr>
          <a:xfrm>
            <a:off x="250920" y="2430360"/>
            <a:ext cx="8642160" cy="423864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250920" y="536724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ازل في الجن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50920" y="60930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في الجن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sp>
        <p:nvSpPr>
          <p:cNvPr id="56" name="عنوان 1"/>
          <p:cNvSpPr/>
          <p:nvPr/>
        </p:nvSpPr>
        <p:spPr>
          <a:xfrm>
            <a:off x="250920" y="1052640"/>
            <a:ext cx="86659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نزول قوله تعالى : 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 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ذكر عبادة بن الصامت أنه في غزوة بدر اختلفوا في النفل فقسمه رسول الله بين المسلمين سواس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8" descr=""/>
          <p:cNvPicPr/>
          <p:nvPr/>
        </p:nvPicPr>
        <p:blipFill>
          <a:blip r:embed="rId3"/>
          <a:stretch/>
        </p:blipFill>
        <p:spPr>
          <a:xfrm>
            <a:off x="539640" y="958680"/>
            <a:ext cx="56880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2195640" y="1268280"/>
            <a:ext cx="482436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1484280"/>
            <a:ext cx="86659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تشريع حق خاص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ه ولرسو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0680" y="220500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إصلاح ذات الب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ث عليه الإسل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2924280"/>
            <a:ext cx="8665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أن يكون المؤمنون إخوة متحاب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حث عليه الإسلا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3716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طاعة الله ورسول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443700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إيمان هو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ا وقر في القلب وصدقته الأعما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515772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إيمان يزيد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الطاع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587700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إيمان ينقص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المعاص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